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C6B0-1A08-463C-B63F-FE5714959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4B4E-695B-47E4-9236-94B263B3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s paid by practices vary. Vaccine purchasing costs account for about 20% of all pediatric practice exp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do not cover full cost of immuni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rural physicians, shows many FPs considering re: continuation of administering all vaccines, especially HPV and MCV4 because of cost and varying levels of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deferring 12-15 mo Hib because of vaccine shortage except for high risk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C808-C898-4C36-8C23-CDEBBFDD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refusals:  fears re: autism. Recent Federal court ruling that MMR not connected to autism.  “Major setback for the fight to link autism to vaccines” 5000 families have filed claims against Federal program re:atuism and vaccines.  Aruge that thimerosal weakens immune system, leading to MMR viral infection and aut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5D5F-4113-4A7B-9649-44B0ED60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are free to make choices regarding medical care unless those choices place their child at substantial risk of serious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of harm related to probability of contracting the disease and risk of morbidity and mor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eep contaminated puncture wound and tet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3C47-D5ED-47BE-A577-208AC2537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mmission on Prevention prio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clinical preventive services for relative health impact and cost effectiveness.  3 with score of 1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irin use with high-risk adults, immunizing children, and tobacco-use screening and brief inter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3628-AAE5-47B8-AC8C-990F4ABAA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ib deaths in Pennsylvania since 10/08, 5 cases of invasive disease in Minnesota – Associated with vaccine shortage and increased colonization.  Children involved were unvaccinated or undervaccin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year high in measles cases las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0CDF-ACF2-436B-BF3A-842B17CF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accine 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vaccines – Result in Hep B, IPV ex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D2F0-95C0-4BBD-9659-D6395224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2/06 – 3 dose series ( 2.4.6 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08 – 2 dose series – 2, 4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efore 15 weeks, Complete by 8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se after 6 weeks, minimum 4 weeks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tudies re: interchang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virus – previous version associated with intussusception.  Present versions have no association, but strict guidelines re: administration.  New guidelines more flexible.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se by 8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265A-EA47-4E70-99FC-B5306FBF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Hybrid) MMR 90%, DTaP 71% by end of second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Admin) Hispanic 60%, White 40%, African American 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A20B-98E3-4FED-BBE8-48224FA8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ssues:  Ignorance, difficulties managing child in clinic, transportation, work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issues: Failure to make return appointment, missed opportunities for well child care, immu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EB76-A32D-4016-A9BC-EA4E7F62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es – Use corrected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09B6-FD11-4EB4-830B-DA0B22D4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shot 6mo – 9 years require second dose one month p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C9B-F7E1-4D54-B0DE-70A19A7A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5C5-F1D8-4647-BA0C-40699C57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590-0297-408E-BC96-4A76A464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DA5-D04C-4F09-8C87-327F407A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C578-47F3-43CE-9F55-BFF60A76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5BF9-09EF-49DD-835E-39BC3AD5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610D-C29A-4258-9C6C-55C35835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43BC-B0C0-4E12-8E9E-B554D557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0E6A-B019-4F04-AFA3-C9D68E9C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9863-32AE-4AAE-AE17-5FE97841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7467-6FA7-452F-96A0-B22BB8F1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BE8-932B-476D-AF65-E8A5F424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3BA5-6FEA-4857-9CC1-BF2884D3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266C-5E8A-48D9-B1A0-4383090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825F-B279-444F-B479-7384897F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0FBF-8FCC-4C96-868A-3E1CCC86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CB74-AAB3-4CDE-BB84-72FB334B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FAF-C0D2-44DF-92B6-37143A35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0D4-22CE-4F0E-AC82-7D3C5573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FD5-51B8-45F6-87F0-23A6B2B4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8F3-0F14-452B-B294-DBD919F0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949-FFC4-4A2E-98AD-DA71216E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F6E-398F-4627-9E1F-9E6CE5BD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0CA-A48C-43D3-9F30-A260D912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F762-5E3F-4C27-B8DC-13A37EDE2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0BF-85B1-41DF-A6D7-F9FC7AB31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vaccinateyourbaby.org/" TargetMode="External"/><Relationship Id="rId3" Type="http://schemas.openxmlformats.org/officeDocument/2006/relationships/hyperlink" Target="http://www.cispimmunize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diatric Immunization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and Controvers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ne Dooley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rico-toddler-caplain-flower"/>
          <p:cNvPicPr/>
          <p:nvPr/>
        </p:nvPicPr>
        <p:blipFill>
          <a:blip r:embed="rId1"/>
          <a:stretch/>
        </p:blipFill>
        <p:spPr>
          <a:xfrm>
            <a:off x="4876920" y="3581280"/>
            <a:ext cx="3666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en Vaccin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09480" y="1676520"/>
            <a:ext cx="723924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ningitis vaccine (MC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fres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aged 9-2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d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 olds who have completed their DTaP series but have not received 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18 year olds if they have completed their DTaP series and either missed their Td at 11-12 or it has been 5 years since they received their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een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ecial Consider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rm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 + m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to a previou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neurologic disorder/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09880" y="5181480"/>
            <a:ext cx="5257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nor illness with or without fever does not contraindicate immu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CAUTION"/>
          <p:cNvPicPr/>
          <p:nvPr/>
        </p:nvPicPr>
        <p:blipFill>
          <a:blip r:embed="rId1"/>
          <a:stretch/>
        </p:blipFill>
        <p:spPr>
          <a:xfrm>
            <a:off x="4743360" y="1600200"/>
            <a:ext cx="3486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ealth System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V, Rotavirus, MMR-V, MCV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deferral of 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M00322_%5B1%5D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265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MCj04039850000[1]"/>
          <p:cNvPicPr/>
          <p:nvPr/>
        </p:nvPicPr>
        <p:blipFill>
          <a:blip r:embed="rId2"/>
          <a:stretch/>
        </p:blipFill>
        <p:spPr>
          <a:xfrm>
            <a:off x="304920" y="4800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ental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a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injections, early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elief about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in 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newborn"/>
          <p:cNvPicPr/>
          <p:nvPr/>
        </p:nvPicPr>
        <p:blipFill>
          <a:blip r:embed="rId1"/>
          <a:stretch/>
        </p:blipFill>
        <p:spPr>
          <a:xfrm>
            <a:off x="609480" y="235116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47920" y="5486400"/>
            <a:ext cx="6324480" cy="116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vaccinateyourbab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www.cispimmuniz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iatrics: The Problem with Dr. Bob’s Alternative Vaccine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6248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of pediatricians report recent parental refusal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gious or philosophical gr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s re: injections, combined vacc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/Benefit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3298"/>
          <p:cNvPicPr/>
          <p:nvPr/>
        </p:nvPicPr>
        <p:blipFill>
          <a:blip r:embed="rId1"/>
          <a:stretch/>
        </p:blipFill>
        <p:spPr>
          <a:xfrm>
            <a:off x="6858000" y="1752480"/>
            <a:ext cx="19051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cute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entry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Medical Neg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Pj0408961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mmunizations</a:t>
            </a:r>
            <a:br>
              <a:rPr sz="3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ffective component of well child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96 – Edward Jenner develops cowpox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73 – 175,000 Americans died of infectious diseases.  The majority of these were children dying of whooping cough, measles, scarlatina, diphtheri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CAN02493_0000[1]"/>
          <p:cNvPicPr/>
          <p:nvPr/>
        </p:nvPicPr>
        <p:blipFill>
          <a:blip r:embed="rId1"/>
          <a:stretch/>
        </p:blipFill>
        <p:spPr>
          <a:xfrm>
            <a:off x="6056280" y="3962520"/>
            <a:ext cx="2273400" cy="2705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85800" y="590400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9480" y="3581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0 – Pasteur, Koch and others demonstrated that diphtheria and cholera were infectious diseases transmitted by micro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7 – Last known case of smallpox     occurs in So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munizations 200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Hib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le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unizatio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133720" y="4572000"/>
            <a:ext cx="4562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mmunization rate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hots up to 2 year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7:  CCRMC 85%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9" descr="baby"/>
          <p:cNvPicPr/>
          <p:nvPr/>
        </p:nvPicPr>
        <p:blipFill>
          <a:blip r:embed="rId1"/>
          <a:stretch/>
        </p:blipFill>
        <p:spPr>
          <a:xfrm>
            <a:off x="5715000" y="1676520"/>
            <a:ext cx="24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3119400" y="1778040"/>
          <a:ext cx="290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9400" y="1778040"/>
                    <a:ext cx="290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6" descr=""/>
          <p:cNvPicPr/>
          <p:nvPr/>
        </p:nvPicPr>
        <p:blipFill>
          <a:blip r:embed="rId3"/>
          <a:srcRect l="0" t="0" r="0" b="19463"/>
          <a:stretch/>
        </p:blipFill>
        <p:spPr>
          <a:xfrm>
            <a:off x="457200" y="1463760"/>
            <a:ext cx="8226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otavirus Vacc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of severe diarrhea in infants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14 of children in US seen in ER or admitted by 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, oral 2 or 3 dos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-98% protection vs sever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baby"/>
          <p:cNvPicPr/>
          <p:nvPr/>
        </p:nvPicPr>
        <p:blipFill>
          <a:blip r:embed="rId1"/>
          <a:stretch/>
        </p:blipFill>
        <p:spPr>
          <a:xfrm>
            <a:off x="901800" y="2050920"/>
            <a:ext cx="3301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6520" y="1752120"/>
            <a:ext cx="5791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ization rates drop in the second year of life, especially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R rates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aP rates 7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disparity for African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Pre-Toddler"/>
          <p:cNvPicPr/>
          <p:nvPr/>
        </p:nvPicPr>
        <p:blipFill>
          <a:blip r:embed="rId1"/>
          <a:stretch/>
        </p:blipFill>
        <p:spPr>
          <a:xfrm>
            <a:off x="533520" y="2438280"/>
            <a:ext cx="20574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contributing to toddler g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coverag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 administr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hots – MMR,VZV,HI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V,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/famil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5334120" y="4343400"/>
            <a:ext cx="300996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Toddler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child visits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important!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Picture 5" descr="MCj035797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415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ordinating Immunizations with a  well child ex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child sche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en 1 week, 1 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ly from 2-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re: well 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visits for developmental screening, anticipatory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 administration of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relationship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oddler"/>
          <p:cNvPicPr/>
          <p:nvPr/>
        </p:nvPicPr>
        <p:blipFill>
          <a:blip r:embed="rId1"/>
          <a:stretch/>
        </p:blipFill>
        <p:spPr>
          <a:xfrm>
            <a:off x="7346880" y="2743200"/>
            <a:ext cx="17971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33520" y="5478480"/>
            <a:ext cx="7924680" cy="86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ppoint to the next well child visit with PC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533520" y="1447920"/>
          <a:ext cx="80769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8:37:05Z</dcterms:created>
  <dc:creator> </dc:creator>
  <dc:description/>
  <dc:language>en-US</dc:language>
  <cp:lastModifiedBy>nsmith</cp:lastModifiedBy>
  <dcterms:modified xsi:type="dcterms:W3CDTF">2009-03-27T18:25:25Z</dcterms:modified>
  <cp:revision>25</cp:revision>
  <dc:subject/>
  <dc:title>Doing Our Best –  CCRMC Well Child Care 0-18 months</dc:title>
</cp:coreProperties>
</file>